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7687-BE96-4A83-8BAB-0C59E260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8301-43FA-4707-BD56-1A95B3A2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4B6A-8BCC-4FE8-A988-31B54079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E9EE-278F-4CA3-9F9C-2E846E48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52F9E-9597-48BF-B1CB-75C9A7C6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D4757-78D9-4F53-B2BB-46439136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D034D-C230-488C-AE09-B27C72F9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4908C-13A8-45AE-91C3-A94CFDF2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AECEF-6F65-4AEF-BD86-3225D1A6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68535-D251-45F7-B657-0FF0261E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8C820-6167-4882-835A-ABE2C847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16EB-703C-4B32-9B84-FF1D8AB5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E3896-A18F-4391-8B53-9625B7BB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BA57F-C1A6-4241-81F1-BCC49B65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B0FED-F63E-4645-8F69-3238961A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5726A-056F-4827-BC17-2CCFBC6E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2D8AB-9B06-4ED3-9119-DC1EAA31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8585-B258-4540-B264-4DF6744C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A54-2076-4A8D-A850-CDD3928E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C8CA-7765-457A-A609-A235F202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8D6A-0238-4326-81DE-23300551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6467-A897-47D9-9E04-9AAA1820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7E34-22E2-436B-8D49-F51DAD55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C00A-50D3-4053-A4FD-A3E5097F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990D-A776-4E62-85BA-33151B6A87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A249-9469-414C-9766-DBD23E7A55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lanetware.com/i/photo/acropolis-parthenon-athens-gr003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lawforwa.org/zbento/homepage/images/jury.jpg&amp;imgrefurl=http://www.lawforwa.org/&amp;usg=__h2qNbvhBbEy-AgY8mi6LvTowttY=&amp;h=358&amp;w=360&amp;sz=49&amp;hl=en&amp;start=6&amp;tbnid=KgarsbK-oHuScM:&amp;tbnh=120&amp;tbnw=121&amp;prev=/images%3Fq%3Djury%26hl%3Den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ehappyandfree.com/pdf/socrates&amp;imgrefurl=http://www.behappyandfree.com/Home/links.html&amp;usg=__v0VUx9w8KTjC4pNgfDW4te6Azug=&amp;h=511&amp;w=340&amp;sz=18&amp;hl=en&amp;start=2&amp;tbnid=gxrV1asi5FYYuM:&amp;tbnh=131&amp;tbnw=87&amp;prev=/images%3Fq%3DSocrates%26hl%3Den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Golden Age in Athe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6, Lesson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80 B.C.-338 B.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thens Rebuil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eks defeated the Persi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fe didn’t change after the victory, but they began a “golden age,” a period of wealth and gl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helped Athens defeat the Persia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457880" y="2514600"/>
            <a:ext cx="468612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City of Athe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the war, most of Athens was destroy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henians had to rebuild their city on a grander scale (What does this mean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the heart of the Acropolis was a marble temple to Athena called the Parthen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s ruins still rise over Athens to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4343400"/>
            <a:ext cx="335304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943600" y="20574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228600" y="396252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029200" y="4038480"/>
            <a:ext cx="3919680" cy="2652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Partheno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overnment and Culture in Athe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hens was a democra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y had an assembly, which is a lawmaking body of government (citizens voted on issues that concerned them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cles was the leader of Athens around 450 B.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 made sure all citizens, rich or poor, could serve in the assembly and sit on a ju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cles arranged for people in the assembly or serving on the jury to be pa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rn to page 200 (Read the Primary Source) What does Pericles say about a citizen who has no interest in governmen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4968720"/>
            <a:ext cx="190512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ilosoph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ecial schools to teach Philosoph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ilosophy-the search for wisdom and the right way to l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rates is a famous philosoph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 questioned Athenian laws, customs, and tradi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 was put on trial for “urging Athens’ young people to revolt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 was sentenced to deat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e of his students, Plato, wrote down his ideas and later became a famous teach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0"/>
            <a:ext cx="2347920" cy="3533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181480" y="3505320"/>
            <a:ext cx="2689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eek Dra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ek writers invented a new theater form-dr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mas were plays that shared choices of an individual, good and evil, and socie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gedies and come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were some features of the Golden Age of Athe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swer questions on page 201 in the red bo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23:09:28Z</dcterms:created>
  <dc:creator>School District</dc:creator>
  <dc:description/>
  <dc:language>en-US</dc:language>
  <cp:lastModifiedBy>School District</cp:lastModifiedBy>
  <dcterms:modified xsi:type="dcterms:W3CDTF">2011-01-20T18:20:41Z</dcterms:modified>
  <cp:revision>6</cp:revision>
  <dc:subject/>
  <dc:title>The Golden Age in Athens</dc:title>
</cp:coreProperties>
</file>